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14D2-0B11-4425-9E35-2CACF5C09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B22A-B5BF-4A47-B735-A39853B98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8A03-61FA-4B15-B0E5-0FCFB24B4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12D6-0CA1-4041-9E28-ECD31876D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1DDF3-8073-4D9A-844C-0C4DEF11B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593FE-04E4-4AA4-ACC8-8F1D3A3FA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69BB6-BB66-48E4-846F-724A8838C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D9270-8793-4E93-B253-2FDA25AAC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91CC3-570A-4119-B6D3-5193AA1A4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F19B1-7270-40B3-8875-92FE228C6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45E83-4CC4-4D8B-9476-006C6DAA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F18B-C9EE-49BD-8579-03E15A8C8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E85EA-BC64-4188-8957-8A9DA92F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2C3A2-A50B-4D01-867A-AB804772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10C95-5F51-4F6C-88B9-F28B8FB51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AB423-8191-4467-8F69-F36A89D76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F7D74-B161-4E70-910C-872E73B3D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8A89-8BE3-49B4-8124-1E1CBE66D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335B-DC4E-43D9-86A7-256B4E0B3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F023-C2F8-46D9-BFD0-DAB4900CB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DCF6-9552-4031-B92D-BCAFE2644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BC3E-008C-4B0E-A4A4-115D03DC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37AF-B049-47CC-9191-4C339FA6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0204-6C55-49A3-80F3-F7ACE163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D0210-0A69-40F3-8FF1-006C9EAF939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91D23-1FFA-4B60-8835-341EA77FC10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914040"/>
            <a:ext cx="8690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Особенности подбора певчих и декоративных птиц</a:t>
            </a: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иноземного</a:t>
            </a: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происхождения в уголках природы разных возрастных групп</a:t>
            </a: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Младшая группа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143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Птица в клетке как временный объек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200400" y="4267080"/>
            <a:ext cx="2819520" cy="18288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200400" y="61722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нарей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213372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крепить название птицы, знание характерных признаков внешнего вида (отметить, что у птицы есть перья, крылья, она летает; клюёт зёрнышки и т.д.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редняя групп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845200" y="1828800"/>
            <a:ext cx="7452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457200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нарей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257800" y="5029200"/>
            <a:ext cx="2514600" cy="1523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371600" y="5029200"/>
            <a:ext cx="2743200" cy="15238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897520" y="45846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мади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2133720"/>
            <a:ext cx="7925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точнить и дополнить знания детей о внешнем виде и повадках птиц. Учить более точно описывать птиц (у неё маленькая голова; маленькие чёрные круглые глаза; тонкие ножки, на них пальцы и т.д.). Расширить знания детей о повадках птички: она купается в воде, чистит пёрышки, поёт. Уточнить и дополнить знания о птичках, её корме. Укреплять интерес к птицам и уходу за ней. Закрепить знания слов: кормушка, купалка, поилка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таршая групп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448560" y="6248160"/>
            <a:ext cx="14580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5880" y="47242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мади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0400" y="47242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исов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095880" y="5257800"/>
            <a:ext cx="2133720" cy="1295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657600" y="5257800"/>
            <a:ext cx="1905120" cy="1295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066680" y="5257800"/>
            <a:ext cx="1981440" cy="1295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518480" y="4729320"/>
            <a:ext cx="130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нарей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205740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точнить знания детей о повадках птиц. Продолжать воспитывать бережное отношение к ним и желание заботиться о хорошем их состоянии. Разнообразить работу дежурных по уходу за птицами, живущих в уголке приро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Подготовительная группа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845560" y="6019560"/>
            <a:ext cx="8568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057320" y="4724280"/>
            <a:ext cx="1838160" cy="1143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914400" y="594360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олнистый попугайчи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1371600"/>
            <a:ext cx="320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19920" y="594360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мади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59436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исов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172200" y="4724280"/>
            <a:ext cx="1981080" cy="12193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276720" y="4724280"/>
            <a:ext cx="1904760" cy="1143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6477120" y="2362320"/>
            <a:ext cx="2057400" cy="14475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781680" y="40384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нарей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1371600"/>
            <a:ext cx="5639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точнить и расширить знания детей о птицах, живущих в уголке природы. Познакомить с новым жильцом уголка – волнистым попугайчиком. Показать своеобразие внешнего вида и повадок: у него загнутый клюв с восковицей, длинный свисающий хвост, на ногах 2 пальца, направленных вперёд, 1 – назад, окраска пёстрая, рисунок в виде волн, попугайчик летает и лазает. Учить сравнивать попугайчика с другими птицами, отмечая различия и сходст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юля</cp:lastModifiedBy>
  <dcterms:modified xsi:type="dcterms:W3CDTF">2010-05-16T17:22:1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